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9836-0C5A-46E8-B3B5-5795A388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21F2-5EB1-48E7-9BF9-94DC876B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A766-93F7-4D4F-836E-1201F612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534F-146B-47D1-A6B1-0AA1A540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4029-F3B3-41ED-A932-058C9D02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71BC-3F5F-4D16-9D77-325D685A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3CE7-18D8-448F-9401-8D3EE3B3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66DC-4A66-4C7E-92E3-BA55A9C0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C568-BB81-43AA-B990-6AE6831A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0C8E-7B9D-477D-BBE1-0555AF12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EF51-4ABD-4D82-89CB-57BFDA0B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C0D2-77CC-4FDB-B5FC-65D55BDF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FB31-9B9B-4537-A9B4-A86FD9A7C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1052640"/>
            <a:ext cx="684072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DAL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UXILIARIES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404640"/>
            <a:ext cx="820872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- Son verbos especiales. No se pueden conjugar en todos los tiempos y tampoco tienen infini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- La tercera persona del singular del presente no lleva "s"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We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can sleep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on the fl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She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can type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a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- Van siempre seguidos de infinitivo sin "to"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She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must be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his 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They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must clean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their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You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can stay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49840" y="29520"/>
            <a:ext cx="128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C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79280" y="907920"/>
          <a:ext cx="8564400" cy="1080720"/>
        </p:xfrm>
        <a:graphic>
          <a:graphicData uri="http://schemas.openxmlformats.org/drawingml/2006/table">
            <a:tbl>
              <a:tblPr/>
              <a:tblGrid>
                <a:gridCol w="2376360"/>
                <a:gridCol w="3024000"/>
                <a:gridCol w="3164040"/>
              </a:tblGrid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 + infini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not / can’t + infini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 + sujeto + infinitivo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50920" y="2059920"/>
            <a:ext cx="82803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an go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an’t go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an 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go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PUESTA C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 Yes, I can                   -- No, I ca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- Para expresa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sibilid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an’t go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with you </a:t>
            </a:r>
            <a:r>
              <a:rPr b="0" i="1" lang="en-GB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(No puedo ir conti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-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ra expresa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abilid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an swim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(Sé nad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- Para expresa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ermis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	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an 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come in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? </a:t>
            </a:r>
            <a:r>
              <a:rPr b="0" i="1" lang="en-GB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(¿Puedo entrar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3500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708360" y="125280"/>
            <a:ext cx="162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87280" y="907920"/>
          <a:ext cx="8856720" cy="731880"/>
        </p:xfrm>
        <a:graphic>
          <a:graphicData uri="http://schemas.openxmlformats.org/drawingml/2006/table">
            <a:tbl>
              <a:tblPr/>
              <a:tblGrid>
                <a:gridCol w="2068560"/>
                <a:gridCol w="3448080"/>
                <a:gridCol w="334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st + infini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 not / mustn’t + infini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st + sujeto + infinitivo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0" y="1969200"/>
            <a:ext cx="889308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must go       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mustn’t go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Must 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PUESTA C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 Yes, I must                   -- No, I must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- Para expresa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bligació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must study </a:t>
            </a:r>
            <a:r>
              <a:rPr b="0" i="1" lang="en-GB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(Debo estudiar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-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 negativ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ara expresa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hibició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You 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mustn't open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the wind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i="1" lang="en-GB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(No </a:t>
            </a:r>
            <a:r>
              <a:rPr b="0" i="1" lang="en-GB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	</a:t>
            </a:r>
            <a:r>
              <a:rPr b="0" i="1" lang="en-GB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debes/puedes abrir la venta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8913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iII in the blanks with CAN / CAN’T / MUST / MUSTN’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Britain, you _________ drive on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 We ___________ buy some food. We've got nothing for din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4. My mother says I_________ go out tonight. I _________ stu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. This isn’t a secret. You _______ tell everybo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64000" y="404640"/>
            <a:ext cx="2076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actic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1873080"/>
            <a:ext cx="806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In Britain, you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USTN’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rive on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W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US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y some food. We've got nothing for din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.4. My mother says I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AN’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out tonight. I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US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stu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. This isn’t a secret. You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A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ll everybo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419640" y="549360"/>
            <a:ext cx="254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SW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13:49:55Z</dcterms:created>
  <dc:creator>rmi</dc:creator>
  <dc:description/>
  <dc:language>en-US</dc:language>
  <cp:lastModifiedBy>rmi</cp:lastModifiedBy>
  <dcterms:modified xsi:type="dcterms:W3CDTF">2009-04-19T12:20:13Z</dcterms:modified>
  <cp:revision>5</cp:revision>
  <dc:subject/>
  <dc:title>Diapositiva 1</dc:title>
</cp:coreProperties>
</file>